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2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gif" ContentType="image/gif"/>
  <Override PartName="/ppt/media/image12.jpeg" ContentType="image/jpeg"/>
  <Override PartName="/ppt/media/image8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89C0-6E53-46B4-A47F-0A0E734F6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C040-B65C-4C9B-B6CD-A3926886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DA93-9712-476D-B947-180081373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C215-FBDB-4165-8F0C-73B870C1D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0B32-EF68-4278-B2AF-40FD5B74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B8E1-B8C2-478B-A6D1-7A4F83F0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B45A-B801-45DA-9630-F91C9F80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B995-D99D-4D52-A2DD-DA1F7381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AEF1-15F1-4FC2-A22A-CA269B5A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736E-7A71-49F7-8A09-B45C1AB6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2473-BF5B-477F-A034-923FBBAE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9EC9-0640-44F5-BDBE-BBE0564E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1A54-310D-4D72-A7AC-6026F0A6E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w a Bigger Bub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ndra Patt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174132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s flabbergasted by the conclusion.  Orbit blew the biggest bubble.  A gum that is meant for chewing and not blow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0" y="3200400"/>
            <a:ext cx="3809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4572000" cy="2819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4191120"/>
            <a:ext cx="4572000" cy="2666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572000" y="4191120"/>
            <a:ext cx="4572000" cy="2666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4572000" y="1371600"/>
            <a:ext cx="4572000" cy="2819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1522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w of my participa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brands of bubble gum produce the biggest bub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1504800" cy="3510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81080" y="3962520"/>
            <a:ext cx="1936800" cy="2454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962520" y="2514600"/>
            <a:ext cx="2257200" cy="2316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705720" y="2286000"/>
            <a:ext cx="1828800" cy="2438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562720" y="4648320"/>
            <a:ext cx="151920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that Double Bubble is going to make the biggest bub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14600" y="3657600"/>
            <a:ext cx="35053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gir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bo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bble Y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icy Fr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bba Bub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Bub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ard stick/ measuring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800600" y="2209680"/>
            <a:ext cx="38354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4 people of each gender who think they are good at blowing bubbl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Bubble Yum, Hubba Bubba, Juicy Fruit and Double Bubble and have each person blow the different types of gum ate different tim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each blow 3 bubbles of each kind of bubble g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how long each bubble is in c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200480"/>
        </p:xfrm>
        <a:graphic>
          <a:graphicData uri="http://schemas.openxmlformats.org/drawingml/2006/table">
            <a:tbl>
              <a:tblPr/>
              <a:tblGrid>
                <a:gridCol w="1496880"/>
                <a:gridCol w="1873440"/>
                <a:gridCol w="1496880"/>
                <a:gridCol w="1498680"/>
                <a:gridCol w="186372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ryn Gilles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icy Fru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uble Bub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llas Rho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8229600" cy="5235480"/>
        </p:xfrm>
        <a:graphic>
          <a:graphicData uri="http://schemas.openxmlformats.org/drawingml/2006/table">
            <a:tbl>
              <a:tblPr/>
              <a:tblGrid>
                <a:gridCol w="1566720"/>
                <a:gridCol w="1960560"/>
                <a:gridCol w="1567080"/>
                <a:gridCol w="1568520"/>
                <a:gridCol w="156672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eckyn F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icy Fru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uble bub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yde Sundhe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00200"/>
          <a:ext cx="8228880" cy="4525560"/>
        </p:xfrm>
        <a:graphic>
          <a:graphicData uri="http://schemas.openxmlformats.org/drawingml/2006/table">
            <a:tbl>
              <a:tblPr/>
              <a:tblGrid>
                <a:gridCol w="1645200"/>
                <a:gridCol w="1646280"/>
                <a:gridCol w="1645560"/>
                <a:gridCol w="1645560"/>
                <a:gridCol w="1646280"/>
              </a:tblGrid>
              <a:tr h="1055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icy Fru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uble Bub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56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ndrah Pay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98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1600200"/>
          <a:ext cx="8838720" cy="2971800"/>
        </p:xfrm>
        <a:graphic>
          <a:graphicData uri="http://schemas.openxmlformats.org/drawingml/2006/table">
            <a:tbl>
              <a:tblPr/>
              <a:tblGrid>
                <a:gridCol w="1609920"/>
                <a:gridCol w="2005560"/>
                <a:gridCol w="1607760"/>
                <a:gridCol w="1609920"/>
                <a:gridCol w="2005560"/>
              </a:tblGrid>
              <a:tr h="1160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ylan Bar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752480" y="4648320"/>
          <a:ext cx="5181840" cy="1782720"/>
        </p:xfrm>
        <a:graphic>
          <a:graphicData uri="http://schemas.openxmlformats.org/drawingml/2006/table">
            <a:tbl>
              <a:tblPr/>
              <a:tblGrid>
                <a:gridCol w="1295640"/>
                <a:gridCol w="1295280"/>
                <a:gridCol w="1295280"/>
                <a:gridCol w="1295640"/>
              </a:tblGrid>
              <a:tr h="747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icy Fru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uble Bub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1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9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9:55:01Z</dcterms:created>
  <dc:creator>USD376</dc:creator>
  <dc:description/>
  <dc:language>en-US</dc:language>
  <cp:lastModifiedBy>USD376</cp:lastModifiedBy>
  <dcterms:modified xsi:type="dcterms:W3CDTF">2011-01-26T15:57:22Z</dcterms:modified>
  <cp:revision>10</cp:revision>
  <dc:subject/>
  <dc:title>Blow a Bigger Bubble</dc:title>
</cp:coreProperties>
</file>